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76944"/>
        <c:axId val="70935633"/>
      </c:barChart>
      <c:catAx>
        <c:axId val="27976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35633"/>
        <c:crosses val="autoZero"/>
        <c:auto val="1"/>
        <c:lblAlgn val="ctr"/>
        <c:lblOffset val="100"/>
        <c:noMultiLvlLbl val="0"/>
      </c:catAx>
      <c:valAx>
        <c:axId val="70935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76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323-2BCB-4DEE-9A9B-D6EBE86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93A-D37A-4064-840C-98C48FDF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92C-194F-4D38-BBCE-5B5B0385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D62-BB22-4B88-B987-D534701D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E64-0920-43E2-A0F9-66D34FC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CD0-5D85-4AEA-BA6F-8F7FDAB0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ECC-96DC-433E-B776-34AF9FD8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87B-D053-4457-BCD9-66B2A999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EBC-0C58-41FF-9F80-97C422E0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C51-9F91-4104-A203-36C2A5CA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D2C-0A12-4A27-9CA6-709B4A9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F21-55C3-4AC0-B102-99AF5A4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DF26D-7186-4744-9224-C632A444C8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