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72000"/>
        <c:axId val="9553125"/>
      </c:barChart>
      <c:catAx>
        <c:axId val="82872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3125"/>
        <c:crosses val="autoZero"/>
        <c:auto val="1"/>
        <c:lblAlgn val="ctr"/>
        <c:lblOffset val="100"/>
        <c:noMultiLvlLbl val="0"/>
      </c:catAx>
      <c:valAx>
        <c:axId val="9553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72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3F8-71E8-4D8C-9C6A-599854A9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307-170F-4354-B7DA-852789D4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A96-1282-4800-8125-FEC267E1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5F7-EE16-429F-ABDC-84972673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817-468F-4186-A441-B2F5D674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517-2DC2-439D-B9FD-5CFD9AF8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B6D-B292-4EC6-8545-AFE58105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41D-E29F-46FD-9EC9-483A5342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4BF-AF1E-4DEE-BC45-5F73FE45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E7C-4F17-43FA-82B2-6A2EDBDC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617-F3AF-4DA8-90A5-908BD588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97D-D608-4DFD-87FA-B1907749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AE6A5-DB28-4716-978E-F4A60E842B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