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55084"/>
        <c:axId val="38410540"/>
      </c:barChart>
      <c:catAx>
        <c:axId val="58255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10540"/>
        <c:crosses val="autoZero"/>
        <c:auto val="1"/>
        <c:lblAlgn val="ctr"/>
        <c:lblOffset val="100"/>
        <c:noMultiLvlLbl val="0"/>
      </c:catAx>
      <c:valAx>
        <c:axId val="384105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55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E0C-E52D-4FEC-927D-366C2B16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137-A6A6-43A5-A4B2-ED4D2FE8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3CF-DE20-4FA0-9DD6-8B2D7C3A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9D54-B292-42D9-A338-FD01647C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B23-BAB3-4D2E-AA3C-7832090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B88-E6ED-496B-B693-970B18E3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A369-0809-49EC-81B8-3F3BD6C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D4E-C568-4C94-9D27-D9604B43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8AE-D257-41A1-B50C-F6696B72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C445-5AD3-4412-AB05-3BAFB0C2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804-1566-4517-BA8B-9693B7BB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CCE-8B89-47A9-8006-281D7F0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79CE2-7969-4A2F-B823-6079BE39BF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