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98162"/>
        <c:axId val="17900528"/>
      </c:barChart>
      <c:catAx>
        <c:axId val="230981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00528"/>
        <c:crosses val="autoZero"/>
        <c:auto val="1"/>
        <c:lblAlgn val="ctr"/>
        <c:lblOffset val="100"/>
        <c:noMultiLvlLbl val="0"/>
      </c:catAx>
      <c:valAx>
        <c:axId val="17900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981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F87-6D4E-461D-8D77-3A4A97BB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B6F-59AB-4537-849D-D2479245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218F-0CB7-4B29-B8F7-D0800C62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BA0-361D-4EA5-9907-17413F88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41F-815F-46D2-B682-A0B2A3E8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1ACC-A914-4DB6-8F18-10687F25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1B2-F7D3-44CE-91D7-9D24239E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4E5B-32DC-4FF1-AEED-D64CB83A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8BB-0515-4C85-8D44-E5F72516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CD12-2E02-49A6-8D87-9DB0C824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B76-D316-4433-ACD6-9A17A01B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5CF-3180-432B-8298-E55A6289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640A7-51DA-4EF7-BA2C-226FCCBBD5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