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26398"/>
        <c:axId val="37906037"/>
      </c:barChart>
      <c:catAx>
        <c:axId val="40626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6037"/>
        <c:crosses val="autoZero"/>
        <c:auto val="1"/>
        <c:lblAlgn val="ctr"/>
        <c:lblOffset val="100"/>
        <c:noMultiLvlLbl val="0"/>
      </c:catAx>
      <c:valAx>
        <c:axId val="37906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6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832-52D9-462A-ABC2-31ABEDFC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0B3-B2B6-4D75-8F09-4ACEF89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66A-7B9E-4540-9204-AA524F7B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D0B-AB84-42EA-9E03-CC9E1011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DA2-7505-4761-A479-43B3166C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65B-6B7F-4B0C-A43E-642074C6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5ED-5CCD-4A9B-8885-6E6F64B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809-2B0E-4A3F-97D4-D5387C15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AB3-6F90-456A-8338-BE5704B6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909-7DBE-43E0-BC1F-A89F0A4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EA5-32A8-4D80-BCCF-D4314FBF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BEF-3CA8-4CFB-A0E5-E05E53A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FA52A-4EEB-41AC-9F4B-79EA81FA90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