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049587"/>
        <c:axId val="90486524"/>
      </c:barChart>
      <c:catAx>
        <c:axId val="250495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486524"/>
        <c:crosses val="autoZero"/>
        <c:auto val="1"/>
        <c:lblAlgn val="ctr"/>
        <c:lblOffset val="100"/>
        <c:noMultiLvlLbl val="0"/>
      </c:catAx>
      <c:valAx>
        <c:axId val="904865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0495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A4B7-B4F3-43AF-9406-E3B8306BA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31A8-BB52-4549-BBFF-D50B3CB0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9B48-C1E2-4CD6-BA87-EBEC7A25D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46D1-808E-4807-8664-39A805495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1BD4-0664-4FD1-B38F-898290A6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0616-24E3-405D-B579-1BEF6C30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637B-A3C0-4D3B-A31E-C05AC927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C87F-6B51-4589-8346-E852F8D4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F518-734F-4D1A-A50D-B731A887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5BA1-0821-4D74-ABF8-E5089A08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E9D3-A4EB-4D7D-B00C-C365DE7F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8295-73DD-425D-B3BB-42B65865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F7A28-1893-45C9-BDD2-6E0BE419C5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