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801700"/>
        <c:axId val="51459840"/>
      </c:barChart>
      <c:catAx>
        <c:axId val="280170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1459840"/>
        <c:crosses val="autoZero"/>
        <c:auto val="1"/>
        <c:lblAlgn val="ctr"/>
        <c:lblOffset val="100"/>
        <c:noMultiLvlLbl val="0"/>
      </c:catAx>
      <c:valAx>
        <c:axId val="5145984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0170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F41E9-2BB8-4B12-A6EC-79EE54CE2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75EEC-31D2-4F14-A539-2027E3D21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6A262-A6CA-47BA-97B1-AC613FED3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63E1B-6F9D-41F8-AF64-33BC79E2C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FBB7E-3B22-4F41-96B5-961CE05D6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66ED4-731B-4968-A9E1-3FD0554B5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39EE9-3BC0-4A3B-96C6-C53DE12ED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E0565-FD90-44AB-B02F-6E257D100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35EA2-FCC0-4BC8-9C20-B8C899B24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E2824-763A-42D0-8E81-9A8E2FE04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C1629-4844-4B13-B3E9-156983A78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9F9D6-C89A-4546-87FE-82223869B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503395-C0E7-427B-AE98-9C782FDBD82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