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33528"/>
        <c:axId val="7971960"/>
      </c:barChart>
      <c:catAx>
        <c:axId val="917335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1960"/>
        <c:crosses val="autoZero"/>
        <c:auto val="1"/>
        <c:lblAlgn val="ctr"/>
        <c:lblOffset val="100"/>
        <c:noMultiLvlLbl val="0"/>
      </c:catAx>
      <c:valAx>
        <c:axId val="7971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35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62B-A2BB-470C-BFD0-37100EBC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1EB-62B8-4A12-ACC3-9420EC16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101-E80A-4D2D-A72D-92E84F4E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E31-AA26-4C3E-AA09-CC82FE79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B6D-EA10-4D29-BFBF-6BF7E372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1BD-5403-4933-A457-772F09D6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566-B615-4DBE-ABEA-CD9BC9B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228-5393-49DE-A999-63A49E6B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174-2D3D-4190-B219-0B86FDCC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E80-4714-474D-8942-A61A5D8D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392-574F-4281-BB55-5A44D42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FEA-9048-41EB-9FDC-E2725F6D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C0897-F454-40D3-980B-7D8A7FF67B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