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35670"/>
        <c:axId val="86429021"/>
      </c:barChart>
      <c:catAx>
        <c:axId val="33835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29021"/>
        <c:crosses val="autoZero"/>
        <c:auto val="1"/>
        <c:lblAlgn val="ctr"/>
        <c:lblOffset val="100"/>
        <c:noMultiLvlLbl val="0"/>
      </c:catAx>
      <c:valAx>
        <c:axId val="86429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35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9BA-B76A-45F0-96C3-456D151A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29E-CD45-4698-B121-A7D62A3F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44C-B77C-4253-AC12-67AAACBF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BFA-DCE6-45F6-8646-11E374E2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8B3-7E26-4252-A249-2165EA5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CC3-6B30-44DF-AAF5-F9B2132E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C08-B176-4433-AB39-86503A9F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372-54EE-4215-88C1-AA9747D0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4A5-4561-4E55-9FF0-8BEB39B5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FCF-0FE7-4980-923D-0EEE3147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6DE-AF5F-4D8C-8558-EB02013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519-A74A-494F-B563-725F4C6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77E6E-C7EA-41FA-AFEB-108313A1CF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