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940"/>
        <c:axId val="45721413"/>
      </c:barChart>
      <c:catAx>
        <c:axId val="559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21413"/>
        <c:crosses val="autoZero"/>
        <c:auto val="1"/>
        <c:lblAlgn val="ctr"/>
        <c:lblOffset val="100"/>
        <c:noMultiLvlLbl val="0"/>
      </c:catAx>
      <c:valAx>
        <c:axId val="45721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614-4DD2-4FB8-A369-4DC95E90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79D-7DB3-4296-B338-C80DA62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7A8-0D65-43DE-89E3-3532198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C40-D77E-4455-B17B-22B4107F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6D0-ACE4-44A7-A458-C79607E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B1B-9C80-4BB9-97D1-5B53677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220-8DDF-4705-8BD4-09092AA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266-6C09-430C-94BD-972652BB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C8B-D132-48D2-B7A5-77B7EDEE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E66-7EA7-4A32-BDDD-FF699B8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00E-07E8-4DD3-A119-2D7040A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571-FE5D-401B-BFF0-E3FBD44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9D9B4-FC8F-4134-9B38-EF888F22B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