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11189"/>
        <c:axId val="99834707"/>
      </c:barChart>
      <c:catAx>
        <c:axId val="14711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34707"/>
        <c:crosses val="autoZero"/>
        <c:auto val="1"/>
        <c:lblAlgn val="ctr"/>
        <c:lblOffset val="100"/>
        <c:noMultiLvlLbl val="0"/>
      </c:catAx>
      <c:valAx>
        <c:axId val="99834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11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497-6894-4E1E-99FA-FE848602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FC9-1F6D-4765-B96A-13FE31B2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7F4-ADC0-4D62-A34E-6D716DED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6AF-E743-42E0-ABE8-18118E7E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E97-F80F-4316-B12F-416C0766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726-1E55-4FC2-8645-48F56D2E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21C-5EE6-4CE2-96C2-C0DAF5C9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9D4-1355-49BC-9ED1-D2128FD4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936-C568-4CDC-B30A-5974E312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654-9AF4-4D1E-BA1C-10FEB847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956-8437-4B1C-A0FF-297AF154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112-C4A3-466D-B7F1-B2BD2EFF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2F7C0-971F-40CB-9203-49BCDD28D8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