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75370"/>
        <c:axId val="80785374"/>
      </c:barChart>
      <c:catAx>
        <c:axId val="64875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85374"/>
        <c:crosses val="autoZero"/>
        <c:auto val="1"/>
        <c:lblAlgn val="ctr"/>
        <c:lblOffset val="100"/>
        <c:noMultiLvlLbl val="0"/>
      </c:catAx>
      <c:valAx>
        <c:axId val="80785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75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852-A7A1-47E1-8C3D-AA5EBDCE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DA2-1106-4013-A230-598DF4A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D16-2D5D-4FA6-A4C7-318E3CFF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F82-B0B7-453D-96BE-99BE346D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91A-9E07-44BB-8766-6F3E0FE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F32-8E05-46B2-BAF8-035CD355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223-2816-402B-9CCE-77E6A866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BB1-0400-4F5E-838C-92C92E4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35E-A9D9-46C0-8311-60B5A963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B44-99D2-4627-85D8-37926A81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D94-C06F-49C6-8E06-5BF06DD7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6C6-BE73-4A34-AB91-56B63869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39D8D-2EF6-46B6-9ECF-17642448E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