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7019"/>
        <c:axId val="77821112"/>
      </c:barChart>
      <c:catAx>
        <c:axId val="25997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1112"/>
        <c:crosses val="autoZero"/>
        <c:auto val="1"/>
        <c:lblAlgn val="ctr"/>
        <c:lblOffset val="100"/>
        <c:noMultiLvlLbl val="0"/>
      </c:catAx>
      <c:valAx>
        <c:axId val="77821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7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DF0-AA2A-451C-AD73-92E1EBDB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F42-D58D-445F-9467-F6369D7F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C9A-59F4-44C5-85A8-EC1E79BD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9CD-3187-460F-B4D1-2E0660F9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4E1-BAA6-4937-B86F-FC8A4ADF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E53-9403-4ECE-A9C6-21DED76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356-64C6-481F-8588-12C98DB9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040-F874-496A-9727-F96AA12E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0BD-A949-436D-9AF0-D5A5C364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5A5-E95D-42E4-BC07-3F335B0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828-EF76-4C7C-A47C-F1D759C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B29-EFE7-48E8-9414-83AC82D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4EF71-EAB3-4DE7-BEE6-5C0B80C58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