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742816"/>
        <c:axId val="95323965"/>
      </c:barChart>
      <c:catAx>
        <c:axId val="647428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323965"/>
        <c:crosses val="autoZero"/>
        <c:auto val="1"/>
        <c:lblAlgn val="ctr"/>
        <c:lblOffset val="100"/>
        <c:noMultiLvlLbl val="0"/>
      </c:catAx>
      <c:valAx>
        <c:axId val="953239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428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8037-1507-4449-AD93-8377AE635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E11A-119B-4CF1-A092-B828674F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E6B5-A9BD-4CE8-9FF8-B46700275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4282-5BC3-4D7A-9D87-18EAC060A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918F-455F-4667-8B93-ED1D8E53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FD9A-F6B9-4DEE-84C5-F6921D23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E076-FEB9-401B-8C11-ECDC1C6A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D594-3473-46B8-906E-4C50751D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CED4-27AC-47EF-9FAB-F361F402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49CB-A73D-47BE-B266-84774DC6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0D10-969D-4974-951F-473DAE9D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F744-137A-4AC2-953E-0DE75F3B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EA2E8-F0A5-49DB-BDD6-6B32BA93F9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