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21629"/>
        <c:axId val="18345184"/>
      </c:barChart>
      <c:catAx>
        <c:axId val="67721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5184"/>
        <c:crosses val="autoZero"/>
        <c:auto val="1"/>
        <c:lblAlgn val="ctr"/>
        <c:lblOffset val="100"/>
        <c:noMultiLvlLbl val="0"/>
      </c:catAx>
      <c:valAx>
        <c:axId val="18345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21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06B-3C37-499F-9E4E-BD29D145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7C7-2794-42CA-B781-B11CC0C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DAD-8AF9-48A9-A0EA-3F986E9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E95-5444-4FCC-97B4-9DB8C1EF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ECE-378E-4497-B1FB-74EF0A2C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031-55BE-4087-AEEF-788616F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DA9-82D4-4B83-B4C7-B5A0191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1E8-F20C-448A-9EFE-D77BC687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188-36B1-4E98-AC68-BC9D47E0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BF1-6D22-4447-B6EB-6CE2EE6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AA5-A15C-4C8D-8F19-5A23552B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F1C-CA70-4D5F-8D8D-91F51A3B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8632B-986B-44D6-95C5-636117D7A4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