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07511"/>
        <c:axId val="23677925"/>
      </c:barChart>
      <c:catAx>
        <c:axId val="96807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77925"/>
        <c:crosses val="autoZero"/>
        <c:auto val="1"/>
        <c:lblAlgn val="ctr"/>
        <c:lblOffset val="100"/>
        <c:noMultiLvlLbl val="0"/>
      </c:catAx>
      <c:valAx>
        <c:axId val="236779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07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A29-A64D-4E8C-8BDD-B6080455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457-325C-473F-9AF2-D87390B4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42E-E741-4D74-A6B1-4CA6CDF7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54D-679E-4C64-B76F-2E856EDF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C99-DC1C-425E-98E1-4ADF420F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13E-F329-4934-8423-16E69CB2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6E7-6655-4A91-A284-6E10A8C7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523-8351-46F8-A854-9902D40B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1A3-D330-4951-8F18-F2EB75F2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D46-2D91-4D28-AC2E-77871677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6FB-4C5F-4186-8CC8-7B8D10F4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DA4-C6B9-42E6-8D60-B02538FD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F9C74-9D12-49CC-8A20-87218F530F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