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97511"/>
        <c:axId val="96816468"/>
      </c:barChart>
      <c:catAx>
        <c:axId val="473975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16468"/>
        <c:crosses val="autoZero"/>
        <c:auto val="1"/>
        <c:lblAlgn val="ctr"/>
        <c:lblOffset val="100"/>
        <c:noMultiLvlLbl val="0"/>
      </c:catAx>
      <c:valAx>
        <c:axId val="968164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975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E1AF-C956-4A92-9C4E-C434A65A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09F-F672-4A88-A4D0-F58A14A5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BF4-751A-4CA4-A70B-64986EF7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92C-9ACA-455E-B8EA-1C9C1222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0114-BFAF-4CE2-91E1-9D1EE476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E0E-47BF-415C-8C51-B0DE94A5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2A34-C0E4-44E9-9144-14C5D80D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81B-C8FD-4514-87A3-E279B2E1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11CD-5D72-4A54-A807-FB176893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8B1-A81D-4B07-AA23-8489364C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702F-C50E-4D2C-914F-2645F1FB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73F4-EFDE-4DA0-A461-1B73F8C3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33485-3957-4B78-9905-7714439D5F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