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18103"/>
        <c:axId val="28945799"/>
      </c:barChart>
      <c:catAx>
        <c:axId val="73318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45799"/>
        <c:crosses val="autoZero"/>
        <c:auto val="1"/>
        <c:lblAlgn val="ctr"/>
        <c:lblOffset val="100"/>
        <c:noMultiLvlLbl val="0"/>
      </c:catAx>
      <c:valAx>
        <c:axId val="28945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18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E0F-A2AC-4EEE-9C54-29C5B9E0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4B0-41C9-4894-A13B-A6205946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CC3-CACE-4E85-837D-C78A8B6F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58D-429D-4021-A149-16424B24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963-E4DC-43AD-B664-A58233EF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D5F-557E-4B0E-8D44-A4D3AE45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964-CBC2-41B2-8436-C5137E5B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5B3-51F0-4D70-ACB6-560D9199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5F8-AFD3-4CDA-9699-C66F82C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925-825B-4F1F-ACE0-26FED0F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F0A-B931-4F5C-828B-BB61F1D4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8B2-E19A-4E4E-958F-63BA9EB6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F9433-596D-47F2-9989-A42B4F09D5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