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922758"/>
        <c:axId val="61473104"/>
      </c:barChart>
      <c:catAx>
        <c:axId val="689227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473104"/>
        <c:crosses val="autoZero"/>
        <c:auto val="1"/>
        <c:lblAlgn val="ctr"/>
        <c:lblOffset val="100"/>
        <c:noMultiLvlLbl val="0"/>
      </c:catAx>
      <c:valAx>
        <c:axId val="614731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9227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DBAD-C3BF-4D48-845F-33A6E5988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F543-BDE3-42C4-8FD4-BA343ECE0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5ACF-3839-4353-BA61-6D0ADD226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B346-34C9-4543-BA8F-CCF7F4FEA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2DE9-D536-4110-8D69-C97B29BB3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1B97-C560-4026-8989-26061B945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4DE5-A2BE-4B05-ADEB-46C42E116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C857-D033-45F8-9928-E071AF3E2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4ADE-DAF0-491C-BF7F-39F442845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2976-CDD9-4149-9FE4-2D754EDBD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CFA1-DAAF-4DBE-9469-96397EB0C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AEB0-C01B-421B-A86C-A3812305E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24E076-11DD-443A-83EB-CC5DD118D30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