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87906"/>
        <c:axId val="5643973"/>
      </c:barChart>
      <c:catAx>
        <c:axId val="640879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3973"/>
        <c:crosses val="autoZero"/>
        <c:auto val="1"/>
        <c:lblAlgn val="ctr"/>
        <c:lblOffset val="100"/>
        <c:noMultiLvlLbl val="0"/>
      </c:catAx>
      <c:valAx>
        <c:axId val="5643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879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645-85E7-4A34-8BE1-5AD6BCF7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8916-9A04-41A7-8780-C448B6B6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90D9-6FFF-4223-8638-59B246F1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340-66DB-456B-9B77-11B70A32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8EB-58C8-4789-B950-59860884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309-3FB7-44A5-B9B8-AFCFD9A7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B50-06F2-4883-B56D-71F5BF28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BCB-D5B7-4876-A30E-EAC3F3B7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9830-8B59-46D0-B01C-C6B10012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360-C786-40BD-AD11-85DBB434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D85-70DA-4710-B168-E13C517A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06F9-4D40-47E6-A479-8E20BCDD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DB12A-0C46-4E12-B4D0-07679DD699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