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82668"/>
        <c:axId val="94999148"/>
      </c:barChart>
      <c:catAx>
        <c:axId val="52782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9148"/>
        <c:crosses val="autoZero"/>
        <c:auto val="1"/>
        <c:lblAlgn val="ctr"/>
        <c:lblOffset val="100"/>
        <c:noMultiLvlLbl val="0"/>
      </c:catAx>
      <c:valAx>
        <c:axId val="94999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82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809-8633-49E0-A40F-9C7119E5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027-B8E4-4A30-9260-C897184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A74-3153-423C-8507-CB039DBD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EE1-BF7D-4140-8659-5D29D893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841-8060-4203-9692-32EC7365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B9F-2CCD-41AF-B803-CF1B6484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532-7B51-4F3A-8B3B-CCB95B1E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011-3631-4320-B191-FC00ADB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700-D3A6-48A0-AF9C-499D3E03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673-738B-460B-816C-D5A77B0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139-F382-47D4-BDCA-A0250D0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D54-9886-4FD0-81FC-BC1FE547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1D8F6-91C0-436F-B468-71D323B47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