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29023"/>
        <c:axId val="3703327"/>
      </c:barChart>
      <c:catAx>
        <c:axId val="58429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3327"/>
        <c:crosses val="autoZero"/>
        <c:auto val="1"/>
        <c:lblAlgn val="ctr"/>
        <c:lblOffset val="100"/>
        <c:noMultiLvlLbl val="0"/>
      </c:catAx>
      <c:valAx>
        <c:axId val="3703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29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03D-B92C-41DD-A73A-CE8A78E0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77B-8CE3-4C4D-817E-A2120624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80A-C211-474A-B996-087B165E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192-76CF-44C5-98B2-5906C7AE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CCF-781D-4B18-8361-BF46CA60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03E-1B7E-4225-9E78-12FF57D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24D-BEA5-4DEB-B638-2C931D6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F8F-A31D-41AA-9A62-B4D2D116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45A-5543-4B4B-B94C-4F42CBCF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A14-E712-4B61-8AFF-C24116D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557-1D16-405F-A450-4AF8163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099-B8A9-4F46-AEE6-D00782D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AEFF5-D530-47D8-A4E9-FE4F539266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